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D1B-C2A6-4668-9447-19DD85D7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D80-C875-4D3F-A7F7-DFCCB6BA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E4F-3521-49B8-9638-0F4EA4D8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EE6-C832-4D26-9B22-311DF845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B60-B8DB-4065-ADAC-B2E31F8A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E23-7261-4E93-9188-74EA5C93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C86-5D21-4232-BAAE-3F9631D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733-440E-4576-83F1-28A38400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229-19E3-404F-89AA-57956893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A1A-E011-457D-9BDA-D98A9FF6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BAB-6397-4304-B072-C4E8508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F3F-B170-4A0D-9B0B-51BC4C7A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6562-A1E4-467A-9060-96BEC9FDE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commons/b/bf/PortHacking-Sydney-Ria.jpg&amp;imgrefurl=http://commons.wikimedia.org/wiki/File:PortHacking-Sydney-Ria.jpg&amp;usg=__5jN3TljQlr4oIXfLq4UPz8F3amI=&amp;h=511&amp;w=768&amp;sz=178&amp;hl=en&amp;start=5&amp;tbnid=9ndxeuaMB7BnMM:&amp;tbnh=94&amp;tbnw=142&amp;prev=/images%3Fq%3Dthe%2Bport%2Bhacking%2Briver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476280"/>
            <a:ext cx="75600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BLEMS WITH TH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RT HACK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V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5661000"/>
            <a:ext cx="84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EMMA AND ELL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716280"/>
            <a:ext cx="2376360" cy="157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72360" y="3716280"/>
            <a:ext cx="2376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ROBLEM,HOPE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AND SOLUTION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Organic chemicals are killing more than they are supposed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: Chemicals are not allowed to kill any more than they are supposed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: They put filters in the dumps so that no rubbish is washed into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ROBLEM HOPE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AND SOLUTION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Sand in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: That the river can flow easily and dee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: the council have stricter rules about people building 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ROBLEM,HOPE 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AND SOLUTION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Runoff from horse farm, a zoo and sewage over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: The people who own the company do something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: To build big tanks so none of the sewage get into the Port Hacking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Conclus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can see by all of these problems, we need to be more careful about what we are doing to the Port Hacking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V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oner or later their will be more of everything, more boats, tourist and jet skies. Would you like to have a peaceful pick nick or a noisy night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6:28:27Z</dcterms:created>
  <dc:creator>News Limited</dc:creator>
  <dc:description/>
  <dc:language>en-US</dc:language>
  <cp:lastModifiedBy>emma.rothfield</cp:lastModifiedBy>
  <dcterms:modified xsi:type="dcterms:W3CDTF">2009-05-15T04:34:47Z</dcterms:modified>
  <cp:revision>4</cp:revision>
  <dc:subject/>
  <dc:title>Slide 1</dc:title>
</cp:coreProperties>
</file>